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84B-3417-4DC9-BE1D-EC6506C6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E5A6-81A8-4BF8-BDFA-DCF4BC49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201B7-81F2-4E6F-B38D-DE7275FA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E08CC-4B59-43EF-B02D-0C5E4F4B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4F4FB-3089-40A8-A438-B640F045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F215D-399F-4EAB-8985-BC5F84A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6F645-51C2-4B51-BA84-B106E7EC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9542D-3347-4D2D-979C-345C9994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A98A5-C749-4EB1-A891-83767A0E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B1E61-884A-4B2D-82E3-2F4ECD86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59219-201B-4C3D-82AB-1394ED76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C29776-D664-4B3A-97CC-E51360A5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666C-C09E-4A15-88FA-66CE84A1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F17D6-A5BD-4512-9834-25A00205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281B8-8080-44F7-AC2A-96BBA0EB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C4795-6200-48BF-9275-F28AB67D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E74CB-14E3-4063-8727-CEEBC646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1BC56-B63C-4BA8-A483-6CFC1927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EEDB3-76EA-4908-8C42-CB0E71A9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BCEDC3-8F19-4F6C-8DCC-6B5E61B9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FE71A-7655-4755-AC37-CB9CE589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A05CA-1DC3-4C03-8762-69930909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24F91-3290-4514-9E52-6DEB336C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A8F0-11CF-41D2-95C1-AFAE8D0A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7FB3A-8032-4F69-8826-4D88DE59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C2AE3-C621-446A-B0E7-710CE0E7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BB93F-A68B-4B0B-B6AA-0B9A2F60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B6583-8B0F-49CD-82F6-F2EFC00F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68E48-BE83-4DF4-B6C2-923F16C2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9B9F9F-155B-4737-A3C6-AFEDA9EF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62691-64FA-4A6B-BF95-E49C9F0F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204E2-61A8-4BF9-958B-1E2B9D62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CF46E-6268-470A-A1D7-2542EDF4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47D7A-EC13-4D38-BF9A-A13FD400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B63A-775C-440A-9994-6E4465A4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FA967-D6FB-4D9B-9D1B-A585D043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6EC25-C876-4E37-9BC3-ADDCC159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33399-D145-402E-8CB1-1EBF92C9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099C-7FB0-4E2A-93CE-6023D451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C3CB-4E84-4D19-B830-86728345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A8FC-7893-42CE-9792-76847F13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BBCF-EA3C-46A1-B41A-E3B3A581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4B1A-AD8A-4B28-99B5-48EBE1F5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E42D-81CE-4956-80DF-4A33E846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8A2E-0FCA-4B6F-8D27-2D097746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1F25-6A54-489F-BBDF-B6409562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072-9175-4E7D-912E-9DC3C3C1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B2BE-4DB9-4809-8FFB-3E15FFC6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6762-7FE5-49E8-858F-8A557B3F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5098-685C-4955-B5E5-D6D22469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2525-AD79-4DB3-B019-9DA3B60C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C7AE-9DEC-4955-A8F8-A0BD3E8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B27AC-2BBC-4E84-8D37-526DCBE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98165-34AD-41A0-BAB3-99DEB529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ED38F-88EE-4821-9057-11ADCB19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594-A8C4-4C3E-85E4-3DB3B64D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F8AE3-BF63-436F-B979-FAB5D074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113E-9D00-4B76-A74B-18C4C2DD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E1A0B-BFF9-4104-AED7-216F31E8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9183D-62CC-4DE2-A41E-8871C9DD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9BB4E-7C9A-42C5-B409-4D00D572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7EA1-2025-4C12-AC80-E9457D90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8F4A8-9920-4519-B5B0-437109B8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86A88-B9C7-4CBA-AA27-F395819D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5754-BDA8-43C7-AB2B-5713D4FF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B4C04-E6FF-4864-A63D-68BB0827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DDA-8EA6-4A77-A827-F7A66D91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19ECD-2E96-44DC-A236-C8A930F6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9659-2A0A-4D6E-92B9-AEED65BC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066B5-8BDE-4F08-A1FB-A8510ED7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CFB80-74C6-460E-A501-B5E91549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5E847-1A3E-4F89-8C7A-100DD302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340F-0262-4747-AEBF-1AB8AC70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BD9DD-EB52-4095-B711-0C4C55F1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401FB-C5FE-4950-9247-478695F7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F5BCE-010B-429A-9069-757D846FE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50DA0-08F4-453F-B7DE-0E376EA4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446-10D3-43A5-8845-284CAB59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9D3DE-4137-4E8A-A055-9C5364CC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3C99F-FE47-4A7E-A675-4768D1D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CCEDB-47D5-4EA1-9C62-550D5161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165AB-0826-44F0-B751-35CDC8BD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A15C3-487B-4026-B76A-9D94ECED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CBB0B-8EED-407D-A35E-DE6F04C0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E10AE-AFAF-475C-A88B-BF866E0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CECCD-3148-41E9-9B58-AE98DC9D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4FB3D-C4CB-4D4C-BBB1-4EFA9A3C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AE871-F775-4B62-8F53-89BBC594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B9C-6ABB-4FB9-903C-03FAEE64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1C74-E101-490D-B61F-97B26153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D3403-E9E5-4B22-A672-2AFD09B8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544F8-86E0-46F5-9341-2DB85102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31074-4486-4EA2-817A-DC4A6FFB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F15ED-C70D-460A-A233-6DD6E144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21DBB-6452-4A8A-BA77-4AFCBD66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BF547-F64B-44E2-B71E-1BFA0CA2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89F9D-6CC8-4ADA-9532-76149949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1C53-C313-4843-B28E-344EBEC8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17125-715A-458F-8C0C-302FEDAC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C1C-6237-4774-9C13-872A2C7F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BE51A-B8D6-463E-923E-AF1CAA8B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3F671-93E9-47A3-B832-7EF4BF3D2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E8AC-6053-49EC-81E6-1D2FC79F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A172-BCB6-4B00-8185-5854DA7F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A8C1-AC49-4253-ABC4-E4BF5B21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6F7A9-CB80-4FCD-8586-A4B2E72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E83D2-33CB-4AC6-9168-A2675A58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C29C-025C-410F-8C5C-2394ED78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DCA9D-E456-4333-B15B-4EAC92B2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43FC2-5AFB-4319-9517-582E9D6B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7211-06A3-450B-98BB-36F68629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EF50E-08E5-48BE-A3A7-EAEED6E4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D9A16-0F75-4832-824A-5EFD8E87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44D99-F0C4-41A1-96AA-02E486F5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4133-D029-49A9-AD91-7C84707B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9AA5A-FC60-4248-8DD1-8C4739F9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AACF6-AADF-4DF3-B05E-4832592B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D7716-D26F-4996-A454-784C8521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EF424-0F9C-4DA6-868F-E8343A02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BF412-15CD-4C22-A0BA-F926C46B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F37D-A278-47D9-8865-B41E8C8C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91FC-12CC-48DF-9A22-9F3D038E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50800" y="804960"/>
            <a:ext cx="96012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FC3AA-B4C9-4F6C-8832-33D0A8E3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D7C2-95F1-4BCF-A1C4-B397D688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D7BA5-3D9A-4461-910F-1966D986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573F7-5FBC-4056-8192-1C98A2E1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50800" y="3817080"/>
            <a:ext cx="960120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107EA-D86E-42F3-ACB6-E83608A0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370560" y="201600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5080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370560" y="3817080"/>
            <a:ext cx="468504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B4511-6FA2-468C-9B78-E6532E7E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9692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943400" y="201600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508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69692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7943400" y="3817080"/>
            <a:ext cx="3091320" cy="16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AC4B4-1067-48E8-AC39-D3581ABB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70043A-3B4F-4435-AFC5-746E2BA7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51C1F-8BA3-4695-A55E-B4712011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49C89-844B-4C13-9338-60FBBFDD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17760" y="801360"/>
            <a:ext cx="8634240" cy="25398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415960" y="328320"/>
            <a:ext cx="497196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43784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831-A9D5-4AD1-A1D8-46A8D19C7150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" name=""/>
          <p:cNvCxnSpPr/>
          <p:nvPr/>
        </p:nvCxnSpPr>
        <p:spPr>
          <a:xfrm>
            <a:off x="2417400" y="3529080"/>
            <a:ext cx="86382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39480" indent="-3394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03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4680" y="798120"/>
            <a:ext cx="3271680" cy="22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5043240" y="798480"/>
            <a:ext cx="6010200" cy="465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70F6-64EF-43C5-AD86-BA4DC3B935F0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"/>
          <p:cNvCxnSpPr/>
          <p:nvPr/>
        </p:nvCxnSpPr>
        <p:spPr>
          <a:xfrm>
            <a:off x="1447920" y="3204720"/>
            <a:ext cx="327096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48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grpSp>
        <p:nvGrpSpPr>
          <p:cNvPr id="449" name=""/>
          <p:cNvGrpSpPr/>
          <p:nvPr/>
        </p:nvGrpSpPr>
        <p:grpSpPr>
          <a:xfrm>
            <a:off x="7477200" y="482760"/>
            <a:ext cx="4071960" cy="5146560"/>
            <a:chOff x="7477200" y="482760"/>
            <a:chExt cx="4071960" cy="5146560"/>
          </a:xfrm>
        </p:grpSpPr>
        <p:sp>
          <p:nvSpPr>
            <p:cNvPr id="450" name=""/>
            <p:cNvSpPr/>
            <p:nvPr/>
          </p:nvSpPr>
          <p:spPr>
            <a:xfrm>
              <a:off x="7477200" y="482760"/>
              <a:ext cx="4071960" cy="5146560"/>
            </a:xfrm>
            <a:prstGeom prst="rect">
              <a:avLst/>
            </a:prstGeom>
            <a:gradFill rotWithShape="0">
              <a:gsLst>
                <a:gs pos="0">
                  <a:srgbClr val="000001"/>
                </a:gs>
                <a:gs pos="100000">
                  <a:srgbClr val="191919"/>
                </a:gs>
              </a:gsLst>
              <a:lin ang="5400000"/>
            </a:gradFill>
            <a:ln w="0">
              <a:noFill/>
            </a:ln>
            <a:effectLst>
              <a:outerShdw dist="228470" dir="4740526" blurRad="0" rotWithShape="0">
                <a:srgbClr val="000000">
                  <a:alpha val="34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90040" y="812880"/>
              <a:ext cx="3447720" cy="4464000"/>
            </a:xfrm>
            <a:prstGeom prst="rect">
              <a:avLst/>
            </a:prstGeom>
            <a:gradFill rotWithShape="0">
              <a:gsLst>
                <a:gs pos="0">
                  <a:srgbClr val="dadada"/>
                </a:gs>
                <a:gs pos="100000">
                  <a:srgbClr val="fffffe"/>
                </a:gs>
              </a:gsLst>
              <a:lin ang="16200000"/>
            </a:gradFill>
            <a:ln w="5076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50800" y="1130400"/>
            <a:ext cx="5531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124840" y="1122120"/>
            <a:ext cx="2789280" cy="3863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rmAutofit fontScale="65000"/>
          </a:bodyPr>
          <a:p>
            <a:pPr marL="2228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22840" indent="-2228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1"/>
          </p:nvPr>
        </p:nvSpPr>
        <p:spPr>
          <a:xfrm>
            <a:off x="1447920" y="5470560"/>
            <a:ext cx="5526000" cy="3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2"/>
          </p:nvPr>
        </p:nvSpPr>
        <p:spPr>
          <a:xfrm>
            <a:off x="1447560" y="318600"/>
            <a:ext cx="5538600" cy="3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3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C6F6-710C-470F-8495-1BFC4DCDEE6E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/>
          <p:nvPr/>
        </p:nvCxnSpPr>
        <p:spPr>
          <a:xfrm>
            <a:off x="1447920" y="3142800"/>
            <a:ext cx="552780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4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 fontScale="81000"/>
          </a:bodyPr>
          <a:p>
            <a:pPr marL="27756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77560" indent="-27756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DFF4-0190-4610-82D3-03CB88A99FBF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9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438840" y="798480"/>
            <a:ext cx="16146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4680" y="798480"/>
            <a:ext cx="7826400" cy="46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91440" bIns="91440" anchor="t">
            <a:normAutofit/>
          </a:bodyPr>
          <a:p>
            <a:pPr marL="34308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C1DA-2FCB-4720-8089-DE129D1F297F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9438840" y="798120"/>
            <a:ext cx="2520" cy="466164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3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50800" y="2016000"/>
            <a:ext cx="9601200" cy="34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A5B-1221-4917-8D4B-CE959695FCAE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18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4040" y="1755360"/>
            <a:ext cx="8640720" cy="18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53680" y="3806640"/>
            <a:ext cx="8628120" cy="10112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22000"/>
          </a:bodyPr>
          <a:p>
            <a:pPr marL="7524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75240" indent="-7524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BD90-57BC-44FF-9EED-79F3C38E3F4F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/>
          <p:nvPr/>
        </p:nvCxnSpPr>
        <p:spPr>
          <a:xfrm>
            <a:off x="1454040" y="3804840"/>
            <a:ext cx="8632080" cy="252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2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9360" y="804600"/>
            <a:ext cx="96026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7920" y="2011320"/>
            <a:ext cx="464328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88000" indent="-28800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559-01BB-4C7F-90CD-88C190588DBE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272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560" y="804960"/>
            <a:ext cx="960588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7920" y="2018880"/>
            <a:ext cx="4643280" cy="8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7000"/>
          </a:bodyPr>
          <a:p>
            <a:pPr marL="58320" indent="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58320" indent="-58320">
              <a:lnSpc>
                <a:spcPct val="136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E420-4466-4814-8368-64E959D63EF8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17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50800" y="804960"/>
            <a:ext cx="9601200" cy="104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22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23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24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1107-6E11-4FC6-B1E1-64069707A7F7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/>
          <p:nvPr/>
        </p:nvCxnSpPr>
        <p:spPr>
          <a:xfrm>
            <a:off x="1454040" y="1846440"/>
            <a:ext cx="9608400" cy="2160"/>
          </a:xfrm>
          <a:prstGeom prst="straightConnector1">
            <a:avLst/>
          </a:prstGeom>
          <a:ln w="31680">
            <a:solidFill>
              <a:srgbClr val="b71e42"/>
            </a:solidFill>
            <a:round/>
          </a:ln>
        </p:spPr>
      </p:cxn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2019240"/>
            <a:ext cx="12192120" cy="4105440"/>
          </a:xfrm>
          <a:prstGeom prst="rect">
            <a:avLst/>
          </a:prstGeom>
          <a:gradFill rotWithShape="0">
            <a:gsLst>
              <a:gs pos="0">
                <a:srgbClr val="dfdbd5"/>
              </a:gs>
              <a:gs pos="5000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rcRect l="0" t="1526" r="0" b="-1502"/>
          <a:stretch/>
        </p:blipFill>
        <p:spPr>
          <a:xfrm>
            <a:off x="0" y="6126120"/>
            <a:ext cx="12192120" cy="743040"/>
          </a:xfrm>
          <a:prstGeom prst="rect">
            <a:avLst/>
          </a:prstGeom>
          <a:ln w="0">
            <a:noFill/>
          </a:ln>
        </p:spPr>
      </p:pic>
      <p:cxnSp>
        <p:nvCxnSpPr>
          <p:cNvPr id="361" name=""/>
          <p:cNvCxnSpPr/>
          <p:nvPr/>
        </p:nvCxnSpPr>
        <p:spPr>
          <a:xfrm>
            <a:off x="-360" y="6127920"/>
            <a:ext cx="12192840" cy="2160"/>
          </a:xfrm>
          <a:prstGeom prst="straightConnector1">
            <a:avLst/>
          </a:prstGeom>
          <a:ln w="12600">
            <a:solidFill>
              <a:srgbClr val="000001">
                <a:alpha val="20000"/>
              </a:srgbClr>
            </a:solidFill>
            <a:round/>
          </a:ln>
        </p:spPr>
      </p:cxnSp>
      <p:sp>
        <p:nvSpPr>
          <p:cNvPr id="362" name="PlaceHolder 1"/>
          <p:cNvSpPr>
            <a:spLocks noGrp="1"/>
          </p:cNvSpPr>
          <p:nvPr>
            <p:ph type="dt" idx="25"/>
          </p:nvPr>
        </p:nvSpPr>
        <p:spPr>
          <a:xfrm>
            <a:off x="7554600" y="330120"/>
            <a:ext cx="3498840" cy="3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b8b8b"/>
                </a:solidFill>
                <a:latin typeface="Gill Sans MT"/>
                <a:ea typeface="Cantar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ftr" idx="26"/>
          </p:nvPr>
        </p:nvSpPr>
        <p:spPr>
          <a:xfrm>
            <a:off x="1450440" y="328320"/>
            <a:ext cx="59374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Cantarel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27"/>
          </p:nvPr>
        </p:nvSpPr>
        <p:spPr>
          <a:xfrm>
            <a:off x="480600" y="798480"/>
            <a:ext cx="80964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4D1D-FA6F-4358-9494-2D47681A6F4B}" type="slidenum">
              <a:rPr b="0" lang="en-US" sz="2800" spc="-1" strike="noStrike">
                <a:solidFill>
                  <a:srgbClr val="b71e42"/>
                </a:solidFill>
                <a:latin typeface="Gill Sans MT"/>
                <a:ea typeface="Cantarel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15680" y="1398240"/>
            <a:ext cx="8636040" cy="1143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Gill Sans MT"/>
              </a:rPr>
              <a:t>Journée d’Apprentissage et de Partage Culturel Africa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3146040" y="2623680"/>
            <a:ext cx="8636040" cy="644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Une initiative solidaire pour l’inclusion et l’é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239120" y="3692520"/>
            <a:ext cx="725652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orteur : YANLOM'S 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Date :10 décembre 20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Lieu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airie de Paris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Contact : associationyanlomsprod@gmail .com 00 33 07 83 91 46 44 /0033 0605662376/0023566999597/686876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0" y="6168960"/>
            <a:ext cx="12192120" cy="368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Devenez Notre Partena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"/>
          <p:cNvSpPr/>
          <p:nvPr/>
        </p:nvSpPr>
        <p:spPr>
          <a:xfrm>
            <a:off x="880920" y="1844640"/>
            <a:ext cx="1017108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450800" y="2998800"/>
          <a:ext cx="9605880" cy="441000"/>
        </p:xfrm>
        <a:graphic>
          <a:graphicData uri="http://schemas.openxmlformats.org/drawingml/2006/table">
            <a:tbl>
              <a:tblPr/>
              <a:tblGrid>
                <a:gridCol w="4803120"/>
                <a:gridCol w="4802760"/>
              </a:tblGrid>
              <a:tr h="4410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71e4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2" name=""/>
          <p:cNvGraphicFramePr/>
          <p:nvPr/>
        </p:nvGraphicFramePr>
        <p:xfrm>
          <a:off x="1009800" y="1432080"/>
          <a:ext cx="10173600" cy="3847680"/>
        </p:xfrm>
        <a:graphic>
          <a:graphicData uri="http://schemas.openxmlformats.org/drawingml/2006/table">
            <a:tbl>
              <a:tblPr/>
              <a:tblGrid>
                <a:gridCol w="1996920"/>
                <a:gridCol w="4088520"/>
                <a:gridCol w="4088160"/>
              </a:tblGrid>
              <a:tr h="336240"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ivea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Montant (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 algn="ctr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Contrepar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3248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Bro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1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flyers et banderoles, mention dans les communications méd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116100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r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sur tous supports, mention verbale à l’événement, stand promotionn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5b5b5"/>
                    </a:solidFill>
                  </a:tcPr>
                </a:tc>
              </a:tr>
              <a:tr h="1317960"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 000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040" rIns="5040" tIns="5040" bIns="5040" anchor="ctr">
                      <a:noAutofit/>
                    </a:bodyPr>
                    <a:p>
                      <a:pPr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go grand format, mention médias/réseaux sociaux, stand premium, remerciement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Ensemble, Faisons la Différ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enez l’inclusion, l’éducation et la diversité culturelle avec YANLOM'S PR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otre engagement offrira transport, subsistances et espoir aux plus vulnér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ez-nous 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00 33 07 83 91 46 44 /06056623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146040" y="804960"/>
            <a:ext cx="790884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 aller plus lo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"/>
          <p:cNvSpPr/>
          <p:nvPr/>
        </p:nvSpPr>
        <p:spPr>
          <a:xfrm>
            <a:off x="1450800" y="1544760"/>
            <a:ext cx="9603000" cy="26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marL="4572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nnexes disponibles : Dossier complet, rapports statistiques, planning détail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Contact :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Mme SOLKAM YANLOM Félicité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, Présidente YANLOM'S PROD             Mail: </a:t>
            </a:r>
            <a:r>
              <a:rPr b="0" lang="fr-FR" sz="2000" spc="-1" strike="noStrike" u="sng">
                <a:solidFill>
                  <a:srgbClr val="fa2b5c"/>
                </a:solidFill>
                <a:uFillTx/>
                <a:latin typeface="Gill Sans MT"/>
              </a:rPr>
              <a:t>associationyanlomsprod@gmail,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Tel: 00 33 07 83 91 46 4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0" y="6243480"/>
            <a:ext cx="12192120" cy="456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198960" y="4502160"/>
            <a:ext cx="579276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71e42"/>
                </a:solidFill>
                <a:latin typeface="Gill Sans MT"/>
              </a:rPr>
              <a:t>Participez à une aventure solidaire et culturelle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93840" y="534600"/>
            <a:ext cx="96026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Invitation à la Solidarit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"/>
          <p:cNvSpPr/>
          <p:nvPr/>
        </p:nvSpPr>
        <p:spPr>
          <a:xfrm>
            <a:off x="1495440" y="3746520"/>
            <a:ext cx="96026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bjectif : Promouvoir l’inclusion sociale à Paris et soutenir l’éducation en Afriqu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5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artenaires visés VOUS 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5629320"/>
            <a:ext cx="12192120" cy="395280"/>
          </a:xfrm>
          <a:prstGeom prst="rect">
            <a:avLst/>
          </a:prstGeom>
          <a:solidFill>
            <a:srgbClr val="dfd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1200240" y="1096920"/>
            <a:ext cx="9385200" cy="17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Gill Sans MT"/>
              </a:rPr>
              <a:t>YANLOM'S PROD vous invite à soutenir un événement culturel et solidaire d’enverg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0" y="6202440"/>
            <a:ext cx="12192120" cy="52236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eae7"/>
            </a:gs>
            <a:gs pos="100000">
              <a:srgbClr val="cac6c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79120" y="815760"/>
            <a:ext cx="9604440" cy="59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Une Journée pour l’Inclusion et l’Espoi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5600" y="1531800"/>
            <a:ext cx="464508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Journée culturelle avec ateliers de danse, musique, conte, défilé, transport adapté et distribution de subsistanc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Quand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11 octobre 2025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90680" y="1531800"/>
            <a:ext cx="66531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ù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Mairie de Paris 14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5124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ourquoi ?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Offrir joie et dignité aux personnes vulnérables (personnes âgées, enfants en situation de handicap)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85760" indent="-2170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Collecter 5 000 € pour 200 kits scolaires et 50 équipements d’assistance en Afriqu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859680" y="4484520"/>
            <a:ext cx="8326440" cy="11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Gill Sans MT"/>
              </a:rPr>
              <a:t>Données clées</a:t>
            </a:r>
            <a:r>
              <a:rPr b="0" lang="fr-FR" sz="1800" spc="-1" strike="noStrike">
                <a:solidFill>
                  <a:srgbClr val="ff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,2M de personnes âgées isolées en France (Petits Frères des Pauvres, 202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30M d’enfants sans accès à l’éducation en Afrique (UNESCO, 202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43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Sommes-Nous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-360" y="1607760"/>
            <a:ext cx="1105380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Association fondée en 2023 à Pari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Mission : Promouvoir les cultures africaines et soutenir les populations vulnérabl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Réalisations : Œuvres caritatives, soirées culturelles, foires, journées et atéli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7600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Valeurs : Solidarité, inclusion, diversité culturel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lus de 20 événements culturels, touchant 5 000 personnes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960120" indent="-19188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Partenariats avec la Mairie de Paris 14e et autres acteur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-360" y="6141960"/>
            <a:ext cx="12192120" cy="627120"/>
          </a:xfrm>
          <a:prstGeom prst="rect">
            <a:avLst/>
          </a:prstGeom>
          <a:solidFill>
            <a:srgbClr val="b0a697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8008920" y="2027160"/>
            <a:ext cx="418320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50440" y="804960"/>
            <a:ext cx="9603000" cy="4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Amb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/>
          <p:nvPr/>
        </p:nvSpPr>
        <p:spPr>
          <a:xfrm>
            <a:off x="1339920" y="2016000"/>
            <a:ext cx="9602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clusion socia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Rassembler 500 personnes vulnérables (personnes âgées isolées, jeunes, orphelins, enfants en situation de handicap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utien humanitair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Financer l’éducation et la mobilité des enfants en Afrique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culturell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Valoriser les traditions africa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0" y="6186600"/>
            <a:ext cx="122839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9000" y="804600"/>
            <a:ext cx="960444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rogramme et Impa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47880" y="1476360"/>
            <a:ext cx="557352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Activité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Ateliers : Danse africaine, musique (piano, guitare, percussions), chant, conte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Défilé en habits traditionnel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Vente solidaire de repas et boisson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Transport : Location de 2 bus pour enfants en situation de handicap et personnes âgée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31480" indent="-22608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istribution : 100 paquets de subsistances (enfants et personnes âgées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51040" y="1482840"/>
            <a:ext cx="464508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ésultats attendu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500 participants à Pari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15 000 € collect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200 kits scolaires et 50 équipements d’assistance distribués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s liens interculturels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14400" y="626112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Qui Bénéficiera de Votre Soutien 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"/>
          <p:cNvSpPr/>
          <p:nvPr/>
        </p:nvSpPr>
        <p:spPr>
          <a:xfrm>
            <a:off x="1450800" y="2016000"/>
            <a:ext cx="9603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À Paris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Personnes âgées isolées, jeunes, orphelins, enfants des rues, enfants en situation de handicap (500 bénéficiaires de subsistanc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En Afrique</a:t>
            </a:r>
            <a:r>
              <a:rPr b="0" lang="fr-FR" sz="18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Enfants scolarisés ou en situation de handicap (Tchad, Congo, Côte d’Ivoire, Camerou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50440" y="804600"/>
            <a:ext cx="960300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Pourquoi Soutenir ce Projet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"/>
          <p:cNvSpPr/>
          <p:nvPr/>
        </p:nvSpPr>
        <p:spPr>
          <a:xfrm>
            <a:off x="1015920" y="1616040"/>
            <a:ext cx="960300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Institutions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Alignement avec les ODD (Éducation, Réduction des inégalités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Visibilité international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ecteur privé 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Renforcement de la responsabilité sociale d’entreprise (RSE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Promotion auprès d’une audience diversifié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513"/>
              </a:spcBef>
              <a:spcAft>
                <a:spcPts val="11"/>
              </a:spcAft>
              <a:buClr>
                <a:srgbClr val="b71e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Société civile</a:t>
            </a:r>
            <a:r>
              <a:rPr b="0" lang="fr-FR" sz="2900" spc="-1" strike="noStrike">
                <a:solidFill>
                  <a:srgbClr val="000000"/>
                </a:solidFill>
                <a:latin typeface="Gill Sans MT"/>
                <a:ea typeface="Noto Sans CJK SC"/>
              </a:rPr>
              <a:t> : Contribution à une cause inclusive et solidair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0" y="6249960"/>
            <a:ext cx="1219212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63840" y="574200"/>
            <a:ext cx="960264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Nos besoi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716040" y="149400"/>
            <a:ext cx="2428920" cy="9633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-9360" y="6335640"/>
            <a:ext cx="12191760" cy="516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  <a:tab algn="l" pos="118872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Gill Sans MT"/>
              </a:rPr>
              <a:t>Rejoignez-nous pour faire la différence 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19080" y="2324160"/>
            <a:ext cx="51674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16040" y="1957320"/>
          <a:ext cx="10243800" cy="3358800"/>
        </p:xfrm>
        <a:graphic>
          <a:graphicData uri="http://schemas.openxmlformats.org/drawingml/2006/table">
            <a:tbl>
              <a:tblPr/>
              <a:tblGrid>
                <a:gridCol w="10243800"/>
              </a:tblGrid>
              <a:tr h="3308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50 équipements d’assistance (béquilles, chaises roulantes, déambulateur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 algn="just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300 kits scol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88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la sa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de 2 bus pour transporter les enfants et les personnes handicapé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pas ou paquets de subsistances pour bénéficiai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59544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Location instruments de musiq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30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Kits de santé et matériel mé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28980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ébergement des artis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65448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Frais de transport Artistes bénévo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tion des bénévol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  <a:tr h="309960">
                <a:tc>
                  <a:txBody>
                    <a:bodyPr lIns="44280" rIns="44280" tIns="0" bIns="0" anchor="ctr">
                      <a:noAutofit/>
                    </a:bodyPr>
                    <a:p>
                      <a:pPr marL="171360" indent="-171360">
                        <a:lnSpc>
                          <a:spcPct val="113000"/>
                        </a:lnSpc>
                        <a:spcBef>
                          <a:spcPts val="11"/>
                        </a:spcBef>
                        <a:spcAft>
                          <a:spcPts val="814"/>
                        </a:spcAft>
                        <a:buClr>
                          <a:srgbClr val="000000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ptos Display"/>
                        </a:rPr>
                        <a:t>Agents de sécuri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6b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7-28T10:28:16Z</dcterms:created>
  <dc:creator>test1</dc:creator>
  <dc:description/>
  <dc:language>en-US</dc:language>
  <cp:lastModifiedBy/>
  <dcterms:modified xsi:type="dcterms:W3CDTF">2025-10-23T18:23:01Z</dcterms:modified>
  <cp:revision>28</cp:revision>
  <dc:subject/>
  <dc:title>Journée d’Apprentissage et de Partage Culturel Africai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2</vt:r8>
  </property>
</Properties>
</file>